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549C-BB4A-45DD-BEC2-87D0F338B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9765-1FC3-4C71-BA56-C8E585550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C1F2-D8CC-48D4-8D4D-E7FB8C17A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1BCD-313E-4648-AB64-A1A27D922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8F91-BECC-4270-AB46-A6B6A6F71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40F9-F818-4E6D-B846-3104D4AD00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7AAB-63E9-43F2-BE00-0AA39FE7D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DC13-DC0E-4D0A-8437-88929277B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8D3F-33FE-4D8B-8CC9-8D48E729C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5C8B-338D-4088-92CA-385B4E194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34E1-2C77-4B17-B7E9-07281C09C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2B3C-E3CA-4356-8DFD-DE0D87B6B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3B27-D995-4F9E-B3F8-4279A3CD7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A47E-944E-42A8-85F0-3901A9C92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51EF-05C9-4F4E-8AC6-F2D224D8C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057400" y="3238560"/>
            <a:ext cx="6705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ER RAD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EYE OR SKIN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DIRECT OR SCATTERED RA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2870280" y="5079960"/>
            <a:ext cx="3225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Nd: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1064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2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75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2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765760" y="5054760"/>
            <a:ext cx="32259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Erbium 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2940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5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8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0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257800" y="6553080"/>
            <a:ext cx="380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5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ASS 4 LASER CONTROLLED ARE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Burt Wenger</cp:lastModifiedBy>
  <cp:lastPrinted>2018-08-15T15:18:09Z</cp:lastPrinted>
  <dcterms:modified xsi:type="dcterms:W3CDTF">2018-09-11T19:45:57Z</dcterms:modified>
  <cp:revision>37</cp:revision>
  <dc:subject/>
  <dc:title>PowerPoint Presentation</dc:title>
</cp:coreProperties>
</file>